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6A4A-04B1-49F2-942D-C3C0DDF84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682F-9503-476D-868D-55FBCC911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94DFAA-512A-4A00-86AC-D96938AC0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03F1D8-9329-455A-B62D-EC8D47A61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8D4286-0514-4858-BE6F-9DFFEEC51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C87BAD-9066-4273-9B05-578D343C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EDF427-F15E-4504-A43A-CFECA524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9F43CC-D076-42AA-9B45-1DAE8138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63F532-906C-4503-980A-90DFB7CDC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9553D9-CE16-49B2-921C-489A720D9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237379-5878-4597-B620-B67E2DEA8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CD98-6D03-4364-9853-9947B1A41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1A3A-5BD7-4918-8E25-44F82130D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D668E-9CD0-49EF-90A7-ED609DE27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FE550-7A16-4B54-AC6D-081A8276B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4CC1B-07AB-43CB-BB58-B6AD009FE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C9385-F6EB-4123-848D-7EBACC1B9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3B776-53DE-4D39-8157-86B1AE43D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74758-3EBE-404E-B58D-1413FEBA3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C7968-C226-4282-9B5D-8F4F7845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067E-64AD-42FC-BA11-2E3C8A0AA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A804E-5349-421A-A344-2C07CF4D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34CA0-68AA-4EBE-BC20-3BFBC511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E5DE9-1DAB-43A3-B7A3-840D0F0FB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AF64A-DFD2-491D-B15C-6810A594D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2BAA5-8092-4152-9058-34649A605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392FA-22AF-4FF2-8B8D-CF5DF258C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D17DB-4826-4185-8484-A046DE2AD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07B31-6B9F-4A54-B00C-9896023DB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0BC17-9C4A-474E-8F69-EB4E54ADE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0A4C7-C07A-487E-BE22-EDF819D86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84BB-D4A4-46D9-AA17-C019D4958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345B1-172B-4CC5-A7CB-1F50ACD8D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9F16E-1F2C-485D-B034-A6D9CD23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6BC52-47D5-47BE-BFF4-BC644679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91908-8B5B-48C8-A051-4BA511A8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A0DAE-E82E-4D72-B8AA-50FB90AD0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AD592-BCCB-4A7A-BABD-79F074AA8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89B62-D752-47A5-A104-4F3750333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A7040-8163-450A-945E-FCFFD2AFA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A65B4-D3C5-4D51-B34B-E41403EE6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773BC-B8AB-45AC-AE90-9A0CF1C43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A304-BBE4-4EBE-90AD-B165A720D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CFCEE-2F05-49A3-A49D-6295367C0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A4916-3E39-458C-AE9B-9DA755C61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B4CE8-9D80-44EA-9E30-7B026A1EB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3508F-6DF3-4B41-8040-F493F180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79C66-84AD-47B1-87E1-406D605E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E8057-7BFD-4C3D-8777-6E4C7A59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0E047-B2DC-41B2-B00B-A26D132E7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D5008-2007-4436-BCDF-72DBE2726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A6390-5E9F-45C9-B61E-36E2799CB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00235-953F-4325-B7C6-4B939F14D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4FC4-015B-4BC6-A960-78381B06A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57D0D-3BC3-4783-80DE-FF91EA873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4601F-33AD-47D3-80A6-04A759D69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5DFCD-83A1-4450-B92B-D79F4BF44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19D0B-CA2D-41B2-93F5-EA6C33E5D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5149E-F3FD-43B4-B64D-6C4144B3D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904AE-BFEB-4692-ADD3-704316BC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CA498-156F-4E80-B57D-FB2C82FF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204A4-7547-4F8C-AD66-17D609C2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FEB02-7992-4773-968F-2C40CA680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D06A3-F74D-4CF8-8922-704F7E83A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29CB-6080-490E-B296-658D9B76B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9882C-CC79-46CB-B820-53B6BBC10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5E272-6ABB-4AC3-B6CA-9EF540D33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62C50-70E1-49B4-8284-77B8B6723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78691-D310-4489-920D-EBAFA7487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E684D-39D5-4474-9174-B849517B8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2D0683-2924-49B7-B337-0D42A08CD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78C37-B616-4332-8FD5-1A232E949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D0E31-D0BD-430A-A4E6-CCDC8BB6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BD7841-24EE-4541-A5EF-76B8B5DB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2E4667-1C31-4584-AF5F-1AE9FB4C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B599-F584-48D5-B0D8-D893903A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B91DE-769F-4694-9DBB-3D88F5FC0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0D168-FAA2-4AD6-A263-456994644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E51D52-2F14-489C-810A-A8AC04FB1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DD27D3-B45B-445D-876F-29A729F2E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B29A0-0AFD-40B2-B054-ACE15D5A9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105FC-3483-4DF7-AD7F-824845FC5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B16D2-F9B5-4DC7-945B-52F7CD4C4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69D87-5A3A-4EF5-94BF-5369EB937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1272E-02E4-43C1-A752-0C8FF8C14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CF49E8-60B5-4167-8AAF-9D6E9DC0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9A64-ED4D-4457-9D4A-AFE7654A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2CAE7-C27A-4927-BBB1-9767CFFD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7FB986-9A9C-4CDD-B3E0-C32911DE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68667-53D0-4B5D-9D19-39E06E6AE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D69B64-AB28-4235-9E53-6147E2BD4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E53BE1-5990-4564-9100-000556DD3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A0548E-12B2-4FBF-8BB6-5BA319026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6713F3-68E2-4D1F-AE2A-139F605D4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8B7C01-734B-47CA-8641-523E8E187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24DE4F-8E94-4AEA-B605-C5800936E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84FCC9-15CB-46AF-ABFF-80634A4F5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49F2-0A2D-4CF2-B720-79DAFA04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FC903E-520F-42C4-9DA6-649FFEAF8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7C994D-F58B-4203-8BDD-2A74DF91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DCCB41-ED41-4AEC-A92A-4A460C1D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6C8FD-785D-4D6C-A347-D54FC296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8DA73B-33C3-4587-9A62-6339C68B3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6A54C0-E63F-40CE-AC11-DA30AA2B6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B57DFD-47A1-49D9-81CB-D7D0ED185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46A442-C00D-44D4-92F4-EF98B2F92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81DBB5-2D6E-48AE-B8B9-83D07781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BD65E6-776C-465D-A5C0-738D0DD80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9464B-ED5C-425A-B52D-B6F049ACAA9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24074-95B7-401C-8387-9E8B2CE3DE7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1C018-1FF6-439E-B7CE-14DE6B8B843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836A3-A8EB-461A-87AE-A6CB8BBABAA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0E37D-B795-4886-9E80-8F6A526E701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49128-151D-4EF8-96E8-6D6EBD42564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BC99A-17A7-4337-BC95-CB39466D5EB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ACB2A-C21D-414B-A44B-64D28DC7154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907A5-B759-4898-8B21-E9819195D40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DlkVYQhSTTE" TargetMode="External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3" descr=""/>
          <p:cNvPicPr/>
          <p:nvPr/>
        </p:nvPicPr>
        <p:blipFill>
          <a:blip r:embed="rId1"/>
          <a:stretch/>
        </p:blipFill>
        <p:spPr>
          <a:xfrm>
            <a:off x="171360" y="401760"/>
            <a:ext cx="8759880" cy="24573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6227640" y="3716280"/>
            <a:ext cx="2611440" cy="108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43329"/>
                </a:solidFill>
                <a:latin typeface="Franklin Gothic Book"/>
              </a:rPr>
              <a:t>Автор: учитель биологии </a:t>
            </a: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43329"/>
                </a:solidFill>
                <a:latin typeface="Franklin Gothic Book"/>
              </a:rPr>
              <a:t>ГБОУ ЦО №1456</a:t>
            </a: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43329"/>
                </a:solidFill>
                <a:latin typeface="Franklin Gothic Book"/>
              </a:rPr>
              <a:t>Водопьянова </a:t>
            </a: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43329"/>
                </a:solidFill>
                <a:latin typeface="Franklin Gothic Book"/>
              </a:rPr>
              <a:t>Марина Александровна</a:t>
            </a: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6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4e3b30"/>
                </a:solidFill>
                <a:latin typeface="Franklin Gothic Medium"/>
              </a:rPr>
              <a:t>ПОЧВА</a:t>
            </a:r>
            <a:endParaRPr b="0" lang="en-US" sz="115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304920" y="2492280"/>
            <a:ext cx="8686800" cy="35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4e3b30"/>
                </a:solidFill>
                <a:latin typeface="Franklin Gothic Book"/>
              </a:rPr>
              <a:t>это верхний плодородный слой земли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4e3b30"/>
                </a:solidFill>
                <a:latin typeface="Franklin Gothic Medium"/>
              </a:rPr>
              <a:t>ТРУДНОСТИ</a:t>
            </a:r>
            <a:endParaRPr b="0" lang="en-US" sz="7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04920" y="1989000"/>
            <a:ext cx="86868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e3b30"/>
                </a:solidFill>
                <a:latin typeface="Franklin Gothic Book"/>
              </a:rPr>
              <a:t>Почва очень плотная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e3b30"/>
                </a:solidFill>
                <a:latin typeface="Franklin Gothic Book"/>
              </a:rPr>
              <a:t>Не проникает свет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e3b30"/>
                </a:solidFill>
                <a:latin typeface="Franklin Gothic Book"/>
              </a:rPr>
              <a:t>Недостаточно кислорода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4e3b30"/>
                </a:solidFill>
                <a:latin typeface="Franklin Gothic Medium"/>
              </a:rPr>
              <a:t>ПОЛОЖИТЕЛЬНЫЕ СВОЙСТВА</a:t>
            </a:r>
            <a:endParaRPr b="0" lang="en-US" sz="5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e3b30"/>
                </a:solidFill>
                <a:latin typeface="Franklin Gothic Book"/>
              </a:rPr>
              <a:t>Обеспечена водой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e3b30"/>
                </a:solidFill>
                <a:latin typeface="Franklin Gothic Book"/>
              </a:rPr>
              <a:t>Много минеральных и органических веществ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e3b30"/>
                </a:solidFill>
                <a:latin typeface="Franklin Gothic Book"/>
              </a:rPr>
              <a:t>Нет резких колебаний температуры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ad1f1f"/>
                </a:solidFill>
                <a:uFillTx/>
                <a:latin typeface="Franklin Gothic Book"/>
                <a:hlinkClick r:id="rId1"/>
              </a:rPr>
              <a:t>http://www.youtube.com/watch?v=DlkVYQhSTT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Franklin Gothic Medium"/>
              </a:rPr>
              <a:t>КРОТ</a:t>
            </a:r>
            <a:endParaRPr b="0" lang="en-US" sz="9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Franklin Gothic Medium"/>
              </a:rPr>
              <a:t>ЛИЧИНКА МАЙСКОГО ЖУКА</a:t>
            </a:r>
            <a:endParaRPr b="0" lang="en-US" sz="44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Franklin Gothic Medium"/>
              </a:rPr>
              <a:t>МЕДВЕДКА</a:t>
            </a:r>
            <a:endParaRPr b="0" lang="en-US" sz="60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394920" y="1052640"/>
            <a:ext cx="8435880" cy="452592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txBody>
          <a:bodyPr anchor="t">
            <a:normAutofit fontScale="89000"/>
          </a:bodyPr>
          <a:p>
            <a:pPr marL="305280" indent="-3052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e3b30"/>
                </a:solidFill>
                <a:latin typeface="Franklin Gothic Book"/>
              </a:rPr>
              <a:t>ПОЧВА НАСЕЛЕНА МНОГОЧИСЛЕННЫМИ ОРГАНИЗМАМИ, КОТОРЫЕ НАХОДЯТСЯ В НЕЙ УСЛОВИЯ, БЛАГОПРИЯТНЫЕ ДЛЯ ЖИЗНИ.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1" name=""/>
          <p:cNvGraphicFramePr/>
          <p:nvPr/>
        </p:nvGraphicFramePr>
        <p:xfrm>
          <a:off x="611280" y="2133720"/>
          <a:ext cx="7921440" cy="380988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  <a:gridCol w="540000"/>
                <a:gridCol w="539640"/>
                <a:gridCol w="539640"/>
                <a:gridCol w="540000"/>
                <a:gridCol w="539640"/>
                <a:gridCol w="539640"/>
                <a:gridCol w="463680"/>
                <a:gridCol w="539640"/>
                <a:gridCol w="539640"/>
                <a:gridCol w="540000"/>
                <a:gridCol w="441360"/>
                <a:gridCol w="539640"/>
                <a:gridCol w="53964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Franklin Gothic Medium"/>
              </a:rPr>
              <a:t>ЧАЙНВОРД</a:t>
            </a:r>
            <a:endParaRPr b="0" lang="en-US" sz="6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3" name=""/>
          <p:cNvGraphicFramePr/>
          <p:nvPr/>
        </p:nvGraphicFramePr>
        <p:xfrm>
          <a:off x="611280" y="2133720"/>
          <a:ext cx="7921440" cy="380988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  <a:gridCol w="540000"/>
                <a:gridCol w="539640"/>
                <a:gridCol w="539640"/>
                <a:gridCol w="540000"/>
                <a:gridCol w="539640"/>
                <a:gridCol w="539640"/>
                <a:gridCol w="463680"/>
                <a:gridCol w="539640"/>
                <a:gridCol w="539640"/>
                <a:gridCol w="540000"/>
                <a:gridCol w="441360"/>
                <a:gridCol w="539640"/>
                <a:gridCol w="53964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ё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Franklin Gothic Medium"/>
              </a:rPr>
              <a:t>ЧАЙНВОРД</a:t>
            </a:r>
            <a:endParaRPr b="0" lang="en-US" sz="6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5" name=""/>
          <p:cNvGraphicFramePr/>
          <p:nvPr/>
        </p:nvGraphicFramePr>
        <p:xfrm>
          <a:off x="611280" y="2133720"/>
          <a:ext cx="7921440" cy="380988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  <a:gridCol w="540000"/>
                <a:gridCol w="539640"/>
                <a:gridCol w="539640"/>
                <a:gridCol w="540000"/>
                <a:gridCol w="539640"/>
                <a:gridCol w="539640"/>
                <a:gridCol w="463680"/>
                <a:gridCol w="539640"/>
                <a:gridCol w="539640"/>
                <a:gridCol w="540000"/>
                <a:gridCol w="441360"/>
                <a:gridCol w="539640"/>
                <a:gridCol w="53964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ё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Franklin Gothic Medium"/>
              </a:rPr>
              <a:t>ЧАЙНВОРД</a:t>
            </a:r>
            <a:endParaRPr b="0" lang="en-US" sz="6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7" name=""/>
          <p:cNvGraphicFramePr/>
          <p:nvPr/>
        </p:nvGraphicFramePr>
        <p:xfrm>
          <a:off x="611280" y="2133720"/>
          <a:ext cx="7921440" cy="380988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  <a:gridCol w="540000"/>
                <a:gridCol w="539640"/>
                <a:gridCol w="539640"/>
                <a:gridCol w="540000"/>
                <a:gridCol w="539640"/>
                <a:gridCol w="539640"/>
                <a:gridCol w="463680"/>
                <a:gridCol w="539640"/>
                <a:gridCol w="539640"/>
                <a:gridCol w="540000"/>
                <a:gridCol w="441360"/>
                <a:gridCol w="539640"/>
                <a:gridCol w="53964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ё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ч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я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Franklin Gothic Medium"/>
              </a:rPr>
              <a:t>ЧАЙНВОРД</a:t>
            </a:r>
            <a:endParaRPr b="0" lang="en-US" sz="6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9" name=""/>
          <p:cNvGraphicFramePr/>
          <p:nvPr/>
        </p:nvGraphicFramePr>
        <p:xfrm>
          <a:off x="611280" y="2133720"/>
          <a:ext cx="7921440" cy="380988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  <a:gridCol w="540000"/>
                <a:gridCol w="539640"/>
                <a:gridCol w="539640"/>
                <a:gridCol w="540000"/>
                <a:gridCol w="539640"/>
                <a:gridCol w="539640"/>
                <a:gridCol w="463680"/>
                <a:gridCol w="539640"/>
                <a:gridCol w="539640"/>
                <a:gridCol w="540000"/>
                <a:gridCol w="441360"/>
                <a:gridCol w="539640"/>
                <a:gridCol w="53964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ё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ч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я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д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Franklin Gothic Medium"/>
              </a:rPr>
              <a:t>ЧАЙНВОРД</a:t>
            </a:r>
            <a:endParaRPr b="0" lang="en-US" sz="6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1" name=""/>
          <p:cNvGraphicFramePr/>
          <p:nvPr/>
        </p:nvGraphicFramePr>
        <p:xfrm>
          <a:off x="611280" y="2133720"/>
          <a:ext cx="7921440" cy="380988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  <a:gridCol w="540000"/>
                <a:gridCol w="539640"/>
                <a:gridCol w="539640"/>
                <a:gridCol w="540000"/>
                <a:gridCol w="539640"/>
                <a:gridCol w="539640"/>
                <a:gridCol w="463680"/>
                <a:gridCol w="539640"/>
                <a:gridCol w="539640"/>
                <a:gridCol w="540000"/>
                <a:gridCol w="441360"/>
                <a:gridCol w="539640"/>
                <a:gridCol w="53964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ё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ч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я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д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ч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н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Franklin Gothic Medium"/>
              </a:rPr>
              <a:t>ЧАЙНВОРД</a:t>
            </a:r>
            <a:endParaRPr b="0" lang="en-US" sz="6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3" name=""/>
          <p:cNvGraphicFramePr/>
          <p:nvPr/>
        </p:nvGraphicFramePr>
        <p:xfrm>
          <a:off x="611280" y="2133720"/>
          <a:ext cx="7921440" cy="380988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  <a:gridCol w="540000"/>
                <a:gridCol w="539640"/>
                <a:gridCol w="539640"/>
                <a:gridCol w="540000"/>
                <a:gridCol w="539640"/>
                <a:gridCol w="539640"/>
                <a:gridCol w="463680"/>
                <a:gridCol w="539640"/>
                <a:gridCol w="539640"/>
                <a:gridCol w="540000"/>
                <a:gridCol w="441360"/>
                <a:gridCol w="539640"/>
                <a:gridCol w="53964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ё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ч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я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д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ч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н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Franklin Gothic Medium"/>
              </a:rPr>
              <a:t>ЧАЙНВОРД</a:t>
            </a:r>
            <a:endParaRPr b="0" lang="en-US" sz="6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81080" y="2945880"/>
            <a:ext cx="8686800" cy="11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beec9"/>
                </a:solidFill>
                <a:latin typeface="Franklin Gothic Medium"/>
              </a:rPr>
              <a:t>КТО ЖИВЕТ В ПОЧВЕ</a:t>
            </a:r>
            <a:endParaRPr b="0" lang="en-US" sz="6600" spc="-1" strike="noStrike">
              <a:solidFill>
                <a:srgbClr val="fbeec9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4T13:25:35Z</dcterms:created>
  <dc:creator>Пользователь</dc:creator>
  <dc:description/>
  <dc:language>en-US</dc:language>
  <cp:lastModifiedBy>Пользователь</cp:lastModifiedBy>
  <dcterms:modified xsi:type="dcterms:W3CDTF">2012-07-18T11:12:28Z</dcterms:modified>
  <cp:revision>14</cp:revision>
  <dc:subject/>
  <dc:title>Слайд 1</dc:title>
</cp:coreProperties>
</file>